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B31-67DD-4BF2-88A0-FFEB1778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ED6-A10B-4957-9AB0-13C6FB2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30B-1EAF-4EFB-A82F-BA936747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8DF-2986-499A-B962-A693459D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343-E5B0-49B6-9AD3-0973E719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9ED1-F150-44BD-88DB-D9AF7424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B520-71E9-4E70-BF44-BB74AEE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07BC-991E-4529-8803-01CAC8E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43A-D6E0-43CA-8474-A88A95AF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03E-219C-424E-8A7F-E8DB2B2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9FC-649E-4FFC-A587-2F3BCE0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732-9DDA-41A9-ABB0-237906D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69E4-4C06-4957-B947-0C7B178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EBD-3E3D-4673-B31B-6DC2A05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F6A5-8B25-467B-B167-45A1B26E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15A5-04CC-4AE0-B165-CAF1A1BB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F7C-6018-4587-B277-D2B67E18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225-5A72-43BD-A44F-1B52DC6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695-0A5E-4001-A66F-2F0AFED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804-F1BB-4BD2-B7BD-03C1856C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72E-FDF9-49A0-AEDC-EA6D889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BB5-9612-4221-B098-207249A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CFC-54E7-451C-BDDC-94E9D83B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FA3-B9BE-4736-B996-42764BC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91E-7CB9-447B-AE50-E0887A2285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2710-DA9D-4447-8196-5DD5E13E1A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 Low Power SRAM Desig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roline Andr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Hun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ousef Shakhsh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cember 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, 200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828800" y="1676520"/>
          <a:ext cx="6400800" cy="4020840"/>
        </p:xfrm>
        <a:graphic>
          <a:graphicData uri="http://schemas.openxmlformats.org/drawingml/2006/table">
            <a:tbl>
              <a:tblPr/>
              <a:tblGrid>
                <a:gridCol w="2203560"/>
                <a:gridCol w="419724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88006  W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 ns *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 Cel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9.04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Effective: 182.03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099200 μ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.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.56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2.8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a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e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3 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6238800" cy="3915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5040" y="31608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ad and wri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9640" y="4038480"/>
            <a:ext cx="268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ense amp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fter 0.5 V drop in 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latch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gister on rising 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f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imulation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55120" y="2057400"/>
            <a:ext cx="727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simulated at all voltages, temperature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(4.5, 5, 5.5) T(0C, 27C, 50C) P(TT, FF, SS, SF, 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one for 1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52080" y="4241880"/>
            <a:ext cx="71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 also simulated under 32-bit Read and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4120" y="2133720"/>
            <a:ext cx="7383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blocked successfully designed and simulated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variety of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wer consumption is minimized with enable signal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mory perip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rea is minimized with overlapping bitcells and se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urther development could result in more power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2286000"/>
            <a:ext cx="73389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velop a functioning SRAM memor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mplement design features to reduce overal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sign a robust memory device that operates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arge range of temperatures, voltages, and process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Our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9040" y="1595520"/>
            <a:ext cx="523728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MB memory array divided into 16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contains 256 x 256 bit cel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957560" cy="380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2819520"/>
            <a:ext cx="335304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-input multiplexer used to select correc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19520"/>
            <a:ext cx="762120" cy="6858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705360" y="1905120"/>
            <a:ext cx="22860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44960" y="151920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mory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200400"/>
            <a:ext cx="53316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09880" y="3809880"/>
            <a:ext cx="914400" cy="609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8280" y="419112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ock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5638680"/>
            <a:ext cx="838080" cy="6098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57600" y="6019560"/>
            <a:ext cx="236232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15720" y="58672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Output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esign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4560" y="152388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yout for one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9880"/>
            <a:ext cx="388620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mory cells ac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olumn and row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rs built with hierarchical desig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tcell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1555920"/>
            <a:ext cx="4857840" cy="434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3680" y="2241720"/>
            <a:ext cx="2695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sized larger than 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MOS W=1.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MOS W=4.05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L NMOS W=1.8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Special Fea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52388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 signals are distributed throughout the memory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8560" y="2814480"/>
            <a:ext cx="5000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 for a considerable reduction in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one memory block is active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lifiers enabled only during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52200" y="540540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read or write are not asserted, entire periphery i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Features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2362320"/>
          <a:ext cx="4419360" cy="2538360"/>
        </p:xfrm>
        <a:graphic>
          <a:graphicData uri="http://schemas.openxmlformats.org/drawingml/2006/table">
            <a:tbl>
              <a:tblPr/>
              <a:tblGrid>
                <a:gridCol w="1084320"/>
                <a:gridCol w="917280"/>
                <a:gridCol w="916200"/>
                <a:gridCol w="750960"/>
                <a:gridCol w="75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 P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ty 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se A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74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4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6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906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54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Deco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62 m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78 n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x G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2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6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-M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9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 μ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082520" y="1595520"/>
            <a:ext cx="77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consumption of active components versus inac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5920" y="2664000"/>
            <a:ext cx="317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active power is much less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power for all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ipher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4200" y="5376960"/>
            <a:ext cx="73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: Inactive devices are consuming much lower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power, preventing wasteful consumption when not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405320" cy="336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19720" y="990720"/>
            <a:ext cx="4495680" cy="1676160"/>
          </a:xfrm>
          <a:prstGeom prst="ellipse">
            <a:avLst/>
          </a:prstGeom>
          <a:noFill/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752480"/>
            <a:ext cx="838440" cy="1526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 6T bi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362320"/>
            <a:ext cx="411480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mory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t cells are tiled and overlap on all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a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239.04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ffective: 182.03 μ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se amps snap directly onto bit cell array without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666880"/>
            <a:ext cx="4419720" cy="1905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629400" y="46479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4680" y="53290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Sense 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Layout cont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76800" cy="433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4343400"/>
            <a:ext cx="2895480" cy="99072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334120"/>
            <a:ext cx="2895840" cy="1295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880" y="1981080"/>
            <a:ext cx="1905120" cy="99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28800"/>
            <a:ext cx="1066680" cy="28195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120" y="4114800"/>
            <a:ext cx="205740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81120" y="5715000"/>
            <a:ext cx="12193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6520" y="548172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 to 1 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4560" y="38815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21320" y="17478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in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17:05Z</dcterms:created>
  <dc:creator>Robert Hunter</dc:creator>
  <dc:description/>
  <dc:language>en-US</dc:language>
  <cp:lastModifiedBy>ITC Labs and Classrooms</cp:lastModifiedBy>
  <dcterms:modified xsi:type="dcterms:W3CDTF">2007-12-05T20:10:59Z</dcterms:modified>
  <cp:revision>56</cp:revision>
  <dc:subject/>
  <dc:title>A Low Power SRAM Design</dc:title>
</cp:coreProperties>
</file>